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DEAB-6FA1-47D8-A91A-0B228BB4C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D32C-0F6E-42F0-B2EC-069D140D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82ED-F096-4E3A-81BC-298956F78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4734-6504-4D01-B4CA-6ED257F6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8FDB-B602-4105-A02A-E4FD32E8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588B-B650-4DB4-B72A-907D4D4C6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9862-43ED-47A9-8AF9-00FD32CE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6470-6C61-436E-855C-D87E0EAE5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9D1D-2753-40A7-91FA-365B926B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E387-87ED-42E8-880D-B9CA31A8E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6BCE-BBF8-4DE4-BE36-4E4ADD52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E67A-EDB9-4748-A464-C13EDF8AA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8CBE-FF3C-4905-BC86-04BE4718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43B-8665-493B-8B7D-80F855CB1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27AF-C2B7-4E80-8653-18CA8A9D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BBEE-1961-4E74-A423-BCF668FAA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F737-7C7D-4690-BCBA-B078C577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E91A-DAE9-4B9A-9DAD-ABF405DE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436C-A7CE-4A5E-8DD1-5902E932A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C41A-4E1B-4721-987F-D6CFBBF97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CFCB-3AC7-4859-AF3E-F2F4C2F79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8E1-CCC0-4305-A38A-CE85499DC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84C3-F499-4667-A350-4583273DF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9A3E-CF6E-43BF-87DD-B5271741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5BD4-FD72-43DC-9B4A-A8F50E98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D7CA-6536-471D-8C7F-D9A2E5D2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980-4BF6-4BD1-A8D2-4DF64FEC4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C22A-E840-4870-A1A9-65A3E4358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B936-75B4-49A6-921B-C04446BFC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6D1D-C939-494B-9001-1E1C42A79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BFEA-A593-492D-8911-9D805A970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F903-BFDB-4272-8F85-EAE9957FD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E2C-D988-4082-811D-8EDD6F27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FE3-2C3C-4C85-A0E2-35D57E9E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C2FB1-5BB1-48BB-BB8E-564DF24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70CE7-6BC5-4F6E-9F59-505F938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E559-A6C4-4191-95AE-1C46A0E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5FD2-BB8D-4B47-A39A-D5623CB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29543-D1E8-4220-9D9F-4FDE9F8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C2EE4-D0C1-4986-90C5-77C8AFFD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37D9F-6935-4AF1-AB93-8DF81DE1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C1ACF-63B0-4852-80D2-DB22B0D5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EAA34-24CE-4229-8C33-C847FD23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28D24-4F00-4174-98C5-B9136DFC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6BF-9C7B-47A0-9AAC-F8B7A7F2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3CFBC-D00A-4F53-A9EE-1614DD3F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0F46E-3DBD-4ABD-9CE7-49B7E486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E3921-6072-45DA-98A6-A383CADE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4B0D7-254F-4698-AA4A-29D35B14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477EC-ACE8-410F-A575-997B3FFC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F80C2-8FED-41F1-842D-296A765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07DBC-9CDE-4BB5-B6F9-257CE57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D6027-5859-4843-907E-DE18A0D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40B9E-6BE7-4EC8-BFD8-C3B95E50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CF8E9-CFE0-4E57-BD9C-A867F165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E9C-B4DA-43CB-AF6C-BDD9B8FE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AC40C-6A25-4CAB-8B19-58BA3220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B3E1-229D-4615-A4D9-BA350B66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A1F0E-021D-42B6-BDEA-6634347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87EF9-2665-4907-9937-BF3DFB6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EB579-4180-41EF-A2AE-DA4044F9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E0F0F-E1A8-4FA2-B070-4277C048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4FCD8-349B-44CA-89CF-52864CC9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E6B4C-B7F8-46A0-8A53-379B06B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9C9B1-96EA-4EDE-B07B-463339F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F7FAB-5358-4397-87A5-63426A3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233F-C354-40AA-8876-D7EF25BE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5789B-0082-49D5-BDE7-83268A58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501F1-9A24-4F9D-85D4-9F7E39F5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D3663-F9CB-4B71-8BB7-E01ED05A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78529-513E-4F1B-85A9-C69DFF6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6AA03-1788-40B6-8F10-FBC1BC6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3E468-36E1-4E8C-B994-2C2784B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9DEDA-1BC0-4B3D-9827-39BDC19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51913-7848-4F80-B496-66CAB772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458FB-35FF-4633-AE38-0E2D038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6858A-6566-4DEA-A51C-E7DBCBD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064-3D84-418E-A1F4-56B1D091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FC9FF-0EBA-4CA4-96A9-587273A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0332E-02C2-4B42-B5F3-1E39AB8C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E3DE9-19A2-4F63-AC0C-3D213F67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BC274-5CE5-4DDB-AFE7-A51A4690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12766-EC58-4AF8-ADA5-471FA8F3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C882-3605-4678-935C-CEE12B62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4F04-AE6B-429F-A4AD-370BDA64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92BA-D934-41ED-8C28-8E0531F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212C-BCA5-40E4-8E63-8C0C85A0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0B5F-97DA-4188-8FB7-8135ADE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E4E-1534-4F09-A14F-2528CFF1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9E6C-8D0B-46CE-9BF6-2262B62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8F01-A58B-4EA2-97ED-1CBEBAA7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96E3-9044-4611-821A-966D1325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24B4-584A-4591-B094-3AEF63F0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7BFE-EF21-443E-B207-8291A6D7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929AE-93F0-4D0E-AED9-DFD441F8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98C6-7AB9-468E-A584-4717FD7D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AB9B-FF91-44BF-A180-C2B7656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4A76-9018-4C89-B5DA-2C8D683E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0AFF-8524-49A5-9421-D7B19ABD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FE4-89DF-4BB6-AD16-97A2AD8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A8B2-9D47-40D5-A3E8-91822AE2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C60F-42F0-4F0A-BA33-196899A8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9245-10D0-4748-804A-2B05E11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0EBF-334A-4FE7-BB1D-AB80A08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6594-FF0C-4A0F-ABE6-EE6F0F2E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3DD5-1CE9-4CBB-B724-D1700DBA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2F11-F363-4E0C-8F92-68427D78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45EE-B0AC-4175-BD9A-87E171A0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1A3C-9D99-48DA-9364-C302FA17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B6C5-CEF0-4766-AF99-9371324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497-AAB9-49DD-844C-310496D2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7D13-EB33-4F59-909A-97EE903A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4FBF-8659-4E3C-A8D2-C580699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1D328-26B0-45D3-8AFB-DF1F3E2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79F96-119E-4184-BA88-D129C684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F2DD-F466-4B84-826E-E930EFF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34BFF-FF3D-4933-8F14-4381252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7412-1518-4DF5-971F-5DE701A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480D-4E62-430A-91D7-25EF108E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67DFE-FDA6-4EF7-B965-638EDE6B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B7EB-75FA-4C4B-8378-FDC09473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524-E4FC-49A8-8BA3-F4858166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0DDD-00C3-41C6-824D-E17179B2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FBFA-4957-4DFA-A605-AF7B936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1195-4078-48E8-ABD6-C2D7126F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E6E7-E85F-4DE7-8BE6-79A03AD8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FBEC-0441-43B3-AA9F-52940C30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0631-4B52-44C1-B20E-444AFF9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9383B-EBFD-477B-B749-133AC561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9C602-611E-4EAF-B46C-E65E70F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1D39-58D5-4822-B5F9-22714D6E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942E-7D00-433B-AE8A-6721C300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AB1-C9B0-4650-AC89-D0110AAC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8ABB1-DEE1-4C9A-BED9-3E02722D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813FA-DFE9-4B0B-8843-ECC1927D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CE34-00CA-44A4-AC66-12C80112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CBE6E-4125-4175-BABE-2FC0615A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73C9B-EB92-4C32-9D93-04B53E00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8ABC-1079-4C1F-8426-D05B74C4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3D351-5CBA-478A-BD9A-A6225BB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88393-1951-461A-87F5-D712337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E582-2E53-4038-A987-7AEBCAE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D499C-4B1E-479E-8017-0FF1BEC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5D0-4D1F-4FB9-843D-0937EF7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2EB0-16D7-44C0-979A-70CA9F4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09167-BCEF-4F4C-8C70-F81CC288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233F6-0C4C-44F3-B4BB-2D10194A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659D-77FB-491D-B2F2-91697CA5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5CBE-14A4-490B-9C1D-6EEA375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687F-9B9F-4253-9E45-8096DEB2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6901-EA09-49F4-87C4-5A6F1F6F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7B22-F3E4-4B92-9A9C-3E8A10E2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D6B0-57CC-4816-A048-006009A4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283A-4E5E-48FA-9C20-BA8A7EC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226-06D4-4125-8291-A4F2AE7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C661-90A4-4764-A149-09BA4D5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9F09-E01B-49DD-886B-CB082FF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CC8CE-05A2-4E58-BD32-C7F0324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A66D6-E239-46C6-987C-D61B3F41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554F2-9745-4A50-ABEC-868E32FF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23C5-C281-45A3-B2B4-379149F4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D61E-7080-4B7C-96E6-FCFF30C5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B8AB-302E-4446-B69F-F24CB770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1BC3-62A1-4ABE-86D1-D373C974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EDD89-0661-494D-87FC-D89CE9F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0FD-83A1-4EA9-8C84-AE60B6C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08DD5-A0E7-42AA-B233-41E409CF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5AD2-9534-4050-A67B-9D7528B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F453-6989-4406-80D9-E4DFB02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682B-F761-4156-8656-3F985D5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30D50-4E1D-439B-9C13-BF4ACB2F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BE655-CF26-401B-B3AF-8B5E37FE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2A99-F6C3-421F-939A-B8874BBF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6C5ED-0671-4728-9670-3EF0A47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5851-B274-48E5-83D3-85282D1A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B9A0E-D958-4DA4-B183-11C5CA6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4FB3-A91C-4855-9E2A-D3CCE971E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A10-5131-401A-91EA-F071BAB3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7240-65CC-4F47-831F-7FDC5511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6B8D-5A39-47CD-BE52-B161D9F20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004-9187-481B-B058-6FB9AE4F1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B205-2D48-4EE2-AC04-34E82FA4B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C0F4-DC5B-4197-A9C5-08A5B3DD8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F03-216D-46FE-BD5F-D19413E7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0CE1-5A87-49D4-A758-D359E4451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33D8-C2DD-439E-B64E-9AE2CAFE7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33B4-AFA6-4C09-A36D-2BC2F835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5E3-59D4-4731-B062-DEF09DF22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2">
            <a:hlinkClick r:id="rId7" action="ppaction://hlinksldjump"/>
          </p:cNvPr>
          <p:cNvSpPr/>
          <p:nvPr/>
        </p:nvSpPr>
        <p:spPr>
          <a:xfrm>
            <a:off x="18288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3">
            <a:hlinkClick r:id="rId9" action="ppaction://hlinksldjump"/>
          </p:cNvPr>
          <p:cNvSpPr/>
          <p:nvPr/>
        </p:nvSpPr>
        <p:spPr>
          <a:xfrm>
            <a:off x="18288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6"/>
          <p:cNvSpPr/>
          <p:nvPr/>
        </p:nvSpPr>
        <p:spPr>
          <a:xfrm>
            <a:off x="36576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7"/>
          <p:cNvSpPr/>
          <p:nvPr/>
        </p:nvSpPr>
        <p:spPr>
          <a:xfrm>
            <a:off x="36576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8"/>
          <p:cNvSpPr/>
          <p:nvPr/>
        </p:nvSpPr>
        <p:spPr>
          <a:xfrm>
            <a:off x="36576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1"/>
          <p:cNvSpPr/>
          <p:nvPr/>
        </p:nvSpPr>
        <p:spPr>
          <a:xfrm>
            <a:off x="54864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2"/>
          <p:cNvSpPr/>
          <p:nvPr/>
        </p:nvSpPr>
        <p:spPr>
          <a:xfrm>
            <a:off x="54864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3"/>
          <p:cNvSpPr/>
          <p:nvPr/>
        </p:nvSpPr>
        <p:spPr>
          <a:xfrm>
            <a:off x="54864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6"/>
          <p:cNvSpPr/>
          <p:nvPr/>
        </p:nvSpPr>
        <p:spPr>
          <a:xfrm>
            <a:off x="73152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7"/>
          <p:cNvSpPr/>
          <p:nvPr/>
        </p:nvSpPr>
        <p:spPr>
          <a:xfrm>
            <a:off x="73152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8"/>
          <p:cNvSpPr/>
          <p:nvPr/>
        </p:nvSpPr>
        <p:spPr>
          <a:xfrm>
            <a:off x="73152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0"/>
          <p:cNvSpPr/>
          <p:nvPr/>
        </p:nvSpPr>
        <p:spPr>
          <a:xfrm>
            <a:off x="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059"/>
          <p:cNvSpPr/>
          <p:nvPr/>
        </p:nvSpPr>
        <p:spPr>
          <a:xfrm>
            <a:off x="485280" y="1676520"/>
            <a:ext cx="82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tough polyester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to make bullet proof v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Kevl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040"/>
          <p:cNvSpPr/>
          <p:nvPr/>
        </p:nvSpPr>
        <p:spPr>
          <a:xfrm>
            <a:off x="-121320" y="1752480"/>
            <a:ext cx="931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variation of polyethylene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in crinkly opaque plastics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D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physical properties of polymer can be changed by shortening or lengthening thi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h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DPE is transparent whereas HDPE is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paq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polymerization of highly branched monomers result in this type of soli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morpho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99880" y="990720"/>
            <a:ext cx="85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ame this Poly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" descr="Teflon_structure.PNG"/>
          <p:cNvPicPr/>
          <p:nvPr/>
        </p:nvPicPr>
        <p:blipFill>
          <a:blip r:embed="rId1"/>
          <a:stretch/>
        </p:blipFill>
        <p:spPr>
          <a:xfrm>
            <a:off x="2819520" y="1987560"/>
            <a:ext cx="3047760" cy="26668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"/>
          <p:cNvSpPr/>
          <p:nvPr/>
        </p:nvSpPr>
        <p:spPr>
          <a:xfrm>
            <a:off x="838080" y="48434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t0.gstatic.com/images?q=tbn:ANd9GcSggNayC0SV54IKwoTTvDT5R-kjh9asrnK4J-pnaIwhKJzrwpAOEbHH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mall molecules are the basic units of polym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mono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The structural formula of a polymer uses these to indicate a repeating uni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are parenthe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ructural formula of a polymer, a variable (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used to represent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hain leng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 polymerization reactions typically occur between these types of aliphatic hydrocarb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lke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densation polymerization results in the elimination of a smaller molecules. A common by product i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olyterafluoroetha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fl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034"/>
          <p:cNvSpPr/>
          <p:nvPr/>
        </p:nvSpPr>
        <p:spPr>
          <a:xfrm>
            <a:off x="4098960" y="1521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35"/>
          <p:cNvSpPr/>
          <p:nvPr/>
        </p:nvSpPr>
        <p:spPr>
          <a:xfrm>
            <a:off x="295200" y="1219320"/>
            <a:ext cx="862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roduc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erization of adipic acid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mino hexan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ylon 6,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2228400" y="1322280"/>
            <a:ext cx="468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1" descr="218px-Polystyrene.svg.png"/>
          <p:cNvPicPr/>
          <p:nvPr/>
        </p:nvPicPr>
        <p:blipFill>
          <a:blip r:embed="rId1"/>
          <a:stretch/>
        </p:blipFill>
        <p:spPr>
          <a:xfrm>
            <a:off x="3030480" y="2100240"/>
            <a:ext cx="2768760" cy="33019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"/>
          <p:cNvSpPr/>
          <p:nvPr/>
        </p:nvSpPr>
        <p:spPr>
          <a:xfrm>
            <a:off x="380880" y="5330880"/>
            <a:ext cx="815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t1.gstatic.com/images?q=tbn:ANd9GcRCeJL7DmnsdkVu3g4qP1YwB7SCC-lGLX4pspdnTNQdCCkF4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styr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benze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6"/>
          <p:cNvSpPr/>
          <p:nvPr/>
        </p:nvSpPr>
        <p:spPr>
          <a:xfrm>
            <a:off x="228600" y="1071720"/>
            <a:ext cx="848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ester. You’ve probably seen it in the text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2286000" y="2552760"/>
            <a:ext cx="4589640" cy="25351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"/>
          <p:cNvSpPr/>
          <p:nvPr/>
        </p:nvSpPr>
        <p:spPr>
          <a:xfrm>
            <a:off x="1982880" y="5240160"/>
            <a:ext cx="51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sks-science.com/images/ChemPET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ET (Polyethylene terephthalate)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065"/>
          <p:cNvSpPr/>
          <p:nvPr/>
        </p:nvSpPr>
        <p:spPr>
          <a:xfrm>
            <a:off x="1319760" y="1905120"/>
            <a:ext cx="649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is polymer is commonl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sed in the making of pi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vinylchlori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VC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Brandon</cp:lastModifiedBy>
  <dcterms:modified xsi:type="dcterms:W3CDTF">2012-10-13T22:39:55Z</dcterms:modified>
  <cp:revision>58</cp:revision>
  <dc:subject/>
  <dc:title>No Slide Title</dc:title>
</cp:coreProperties>
</file>